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D408-4FEA-47E2-AF21-F7A54C35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025-C327-413B-9AA8-FF60FA44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C64-09FE-4E97-AAB4-22714CA6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DB7-31C7-448C-AC88-78C1F601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EFA-9A05-4970-89C3-056D3380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5BA-1043-4CFF-87EF-B369730C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C2D-F915-4F99-9DFF-84690359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8AD-7DFC-417B-93BF-17B223A2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651-A0FF-4DC3-B7A8-73C5CC83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BCB1-918B-45A7-BE9D-65A85C39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CB3F-48DD-4BBF-9E2F-3EEFCFF5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173-EFC8-4883-BE15-73C3A597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FABB-927E-49A2-AC87-9E9FA97A2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lib.lbl.gov/ImgLib/COLLECTIONS/BERKELEY-LAB/RESEARCH-1991-PRESENT/LIFE-SCIENCES/HUMAN-GENOME-PROJECT/images/96703209.lowres.jpe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00120" y="2320920"/>
            <a:ext cx="6755040" cy="2136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92240" y="25830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hemoglobin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2298600"/>
            <a:ext cx="97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marrow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21040" y="2857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92240" y="42670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engineered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59320" y="256536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93040" y="407664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m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ene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080" y="5116680"/>
            <a:ext cx="825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ffects some times are not long lasting ex. Treating people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stic Fibrosis by spraying genetically altered viruses into the brea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ical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be great for scientists to be able to cure disease 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engineering taller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DN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for All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nioce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villus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sequencing that detect disease causing all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3733920" cy="2712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cvs.jpg"/>
          <p:cNvPicPr/>
          <p:nvPr/>
        </p:nvPicPr>
        <p:blipFill>
          <a:blip r:embed="rId3"/>
          <a:stretch/>
        </p:blipFill>
        <p:spPr>
          <a:xfrm>
            <a:off x="4724280" y="4114800"/>
            <a:ext cx="38862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Fingerpr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individual is exactly alike except identical tw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fingerprinting is a power tool that can be used to identify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s: solve crimes, determine paternity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30400" y="1897200"/>
            <a:ext cx="6718320" cy="1773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24080" y="1828800"/>
            <a:ext cx="190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striction enzy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3120" y="3433680"/>
            <a:ext cx="21337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romosomes contain large amounts of DNA called repeats that do not code for proteins.  This DNA varies from person to person. Here, one sample has 12 repeats between genes A and B, while the second sample has 9 repea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2040" y="3433680"/>
            <a:ext cx="20829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striction enzymes are used to cut the DNA into fragments containing genes and repeats. Note that the repeat fragments from these two samples are of different length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70680" y="3433680"/>
            <a:ext cx="23000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DNA fragments are separated according to size using gel electrophoresis.  The fragments containing repeats are then labeled using radioactive probes. This produces a series of bands—the DNA fingerpri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NA Fingerpr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6248520" cy="5133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6840" y="344520"/>
            <a:ext cx="204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m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373640" cy="6367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1440" y="773280"/>
            <a:ext cx="308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suspect 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r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95720" y="762120"/>
            <a:ext cx="4133880" cy="5410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3640" y="1106640"/>
            <a:ext cx="282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e father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306680" cy="5976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7520" y="801720"/>
            <a:ext cx="33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ets of twin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c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ngoing effort to analyze the human DNA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ith Gene Therapy which is replacing a working gene with a faulty or absent ge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Human Genome project, gel analysis progra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1523880"/>
            <a:ext cx="4191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17:49:28Z</dcterms:created>
  <dc:creator>Perquimans County Schools</dc:creator>
  <dc:description/>
  <dc:language>en-US</dc:language>
  <cp:lastModifiedBy>Perquimans County Schools</cp:lastModifiedBy>
  <dcterms:modified xsi:type="dcterms:W3CDTF">2006-11-30T19:45:31Z</dcterms:modified>
  <cp:revision>4</cp:revision>
  <dc:subject/>
  <dc:title>Human DNA Analysis</dc:title>
</cp:coreProperties>
</file>